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BB98-E369-4EBA-9D68-0E895CC6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26C2-558E-4F19-AF1D-AD74804C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5EEF-A6E6-42CA-ABD0-3EE66ED6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FB57-8FF5-4AAA-B9DA-BEC8D2BE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F877-7792-4797-82EC-BCAB667D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02CB-5ADF-4E50-8A5C-681D0FED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623D-A228-4F0A-B338-D514CCD4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1088-60F2-4C8A-88F3-649EC6ED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DA28-3F66-43B0-9F6C-83F11D4C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5114-75E2-4339-91BB-E6A1B95F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9BDD-F94D-43AE-954D-4CFFB075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D7BA-8BA5-40C7-9DD2-576FB41B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23F8-330D-4CD0-B64A-AB2A724EE3B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255120" y="3278160"/>
            <a:ext cx="2279160" cy="45972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42920" y="228600"/>
            <a:ext cx="8893080" cy="669600"/>
          </a:xfrm>
          <a:prstGeom prst="rect">
            <a:avLst/>
          </a:prstGeom>
          <a:gradFill rotWithShape="0">
            <a:gsLst>
              <a:gs pos="0">
                <a:srgbClr val="57576b"/>
              </a:gs>
              <a:gs pos="50000">
                <a:srgbClr val="bdbde8"/>
              </a:gs>
              <a:gs pos="100000">
                <a:srgbClr val="57576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2276"/>
              </a:spcBef>
              <a:spcAft>
                <a:spcPts val="22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stinos metabólicos de la GLUCOSA-6-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3080" y="2276640"/>
            <a:ext cx="300780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lucógeno-gé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515400" y="170028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Gluc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4213080" y="2131920"/>
            <a:ext cx="287640" cy="936720"/>
          </a:xfrm>
          <a:prstGeom prst="upArrow">
            <a:avLst>
              <a:gd name="adj1" fmla="val 50000"/>
              <a:gd name="adj2" fmla="val 8141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4860720" y="2852640"/>
            <a:ext cx="302616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ia de las Pento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7095240" y="335772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Ribosa-5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5508720" y="3427560"/>
            <a:ext cx="1584360" cy="288720"/>
          </a:xfrm>
          <a:prstGeom prst="rightArrow">
            <a:avLst>
              <a:gd name="adj1" fmla="val 49454"/>
              <a:gd name="adj2" fmla="val 8688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609360" y="481824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Arial"/>
              </a:rPr>
              <a:t>Piruv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4211640" y="3932280"/>
            <a:ext cx="289080" cy="1008000"/>
          </a:xfrm>
          <a:prstGeom prst="downArrow">
            <a:avLst>
              <a:gd name="adj1" fmla="val 50000"/>
              <a:gd name="adj2" fmla="val 8717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1440" y="328464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1552680" y="3427560"/>
            <a:ext cx="1657080" cy="288720"/>
          </a:xfrm>
          <a:prstGeom prst="leftArrow">
            <a:avLst>
              <a:gd name="adj1" fmla="val 59343"/>
              <a:gd name="adj2" fmla="val 9839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967680" y="2708280"/>
            <a:ext cx="261756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Glucosa-6-fosf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5"/>
          <p:cNvSpPr/>
          <p:nvPr/>
        </p:nvSpPr>
        <p:spPr>
          <a:xfrm>
            <a:off x="2700360" y="2852640"/>
            <a:ext cx="3311640" cy="3240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3633480" y="4076640"/>
            <a:ext cx="2183400" cy="459720"/>
          </a:xfrm>
          <a:prstGeom prst="rect">
            <a:avLst/>
          </a:prstGeom>
          <a:solidFill>
            <a:srgbClr val="bdb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ia Glicol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16"/>
          <p:cNvGrpSpPr/>
          <p:nvPr/>
        </p:nvGrpSpPr>
        <p:grpSpPr>
          <a:xfrm>
            <a:off x="395280" y="349200"/>
            <a:ext cx="7921800" cy="3149280"/>
            <a:chOff x="395280" y="349200"/>
            <a:chExt cx="7921800" cy="3149280"/>
          </a:xfrm>
        </p:grpSpPr>
        <p:pic>
          <p:nvPicPr>
            <p:cNvPr id="151" name="Picture 4" descr="sp4542"/>
            <p:cNvPicPr/>
            <p:nvPr/>
          </p:nvPicPr>
          <p:blipFill>
            <a:blip r:embed="rId1"/>
            <a:srcRect l="0" t="0" r="22089" b="21016"/>
            <a:stretch/>
          </p:blipFill>
          <p:spPr>
            <a:xfrm>
              <a:off x="395280" y="349200"/>
              <a:ext cx="7921800" cy="21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Rectangle 7"/>
            <p:cNvSpPr/>
            <p:nvPr/>
          </p:nvSpPr>
          <p:spPr>
            <a:xfrm>
              <a:off x="1187280" y="2565360"/>
              <a:ext cx="287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Gliceraldehído-3-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5076720" y="2519280"/>
              <a:ext cx="2519640" cy="9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osfa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dihidroxiceto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4"/>
            <p:cNvSpPr/>
            <p:nvPr/>
          </p:nvSpPr>
          <p:spPr>
            <a:xfrm>
              <a:off x="3419640" y="404640"/>
              <a:ext cx="20160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Arial"/>
                </a:rPr>
                <a:t>Triosa fosfato isomer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7"/>
          <p:cNvGrpSpPr/>
          <p:nvPr/>
        </p:nvGrpSpPr>
        <p:grpSpPr>
          <a:xfrm>
            <a:off x="108000" y="3789360"/>
            <a:ext cx="8856720" cy="2404440"/>
            <a:chOff x="108000" y="3789360"/>
            <a:chExt cx="8856720" cy="2404440"/>
          </a:xfrm>
        </p:grpSpPr>
        <p:pic>
          <p:nvPicPr>
            <p:cNvPr id="156" name="Picture 10" descr="sp4551"/>
            <p:cNvPicPr/>
            <p:nvPr/>
          </p:nvPicPr>
          <p:blipFill>
            <a:blip r:embed="rId2"/>
            <a:srcRect l="5733" t="-6598" r="16476" b="13926"/>
            <a:stretch/>
          </p:blipFill>
          <p:spPr>
            <a:xfrm>
              <a:off x="108000" y="3789360"/>
              <a:ext cx="885672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11"/>
            <p:cNvSpPr/>
            <p:nvPr/>
          </p:nvSpPr>
          <p:spPr>
            <a:xfrm>
              <a:off x="324000" y="5686560"/>
              <a:ext cx="287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Gliceraldehido-3-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2"/>
            <p:cNvSpPr/>
            <p:nvPr/>
          </p:nvSpPr>
          <p:spPr>
            <a:xfrm>
              <a:off x="4858920" y="5734080"/>
              <a:ext cx="285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1,3-bisP-Glicera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2268360" y="4941720"/>
              <a:ext cx="259092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Arial"/>
                </a:rPr>
                <a:t>Gliceraldehído-3-P deshidrogen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19"/>
          <p:cNvGrpSpPr/>
          <p:nvPr/>
        </p:nvGrpSpPr>
        <p:grpSpPr>
          <a:xfrm>
            <a:off x="71280" y="476280"/>
            <a:ext cx="8964720" cy="3496320"/>
            <a:chOff x="71280" y="476280"/>
            <a:chExt cx="8964720" cy="3496320"/>
          </a:xfrm>
        </p:grpSpPr>
        <p:pic>
          <p:nvPicPr>
            <p:cNvPr id="161" name="Picture 4" descr="sp4562"/>
            <p:cNvPicPr/>
            <p:nvPr/>
          </p:nvPicPr>
          <p:blipFill>
            <a:blip r:embed="rId1"/>
            <a:srcRect l="3572" t="0" r="22332" b="13926"/>
            <a:stretch/>
          </p:blipFill>
          <p:spPr>
            <a:xfrm>
              <a:off x="71280" y="476280"/>
              <a:ext cx="8964720" cy="19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Rectangle 6"/>
            <p:cNvSpPr/>
            <p:nvPr/>
          </p:nvSpPr>
          <p:spPr>
            <a:xfrm>
              <a:off x="652680" y="244476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1,3-bisP-Glicer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7"/>
            <p:cNvSpPr/>
            <p:nvPr/>
          </p:nvSpPr>
          <p:spPr>
            <a:xfrm>
              <a:off x="4638600" y="237348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3-P-Glicera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3203640" y="1484280"/>
              <a:ext cx="18000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Arial"/>
                </a:rPr>
                <a:t>P-glicerato quin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7"/>
            <p:cNvSpPr/>
            <p:nvPr/>
          </p:nvSpPr>
          <p:spPr>
            <a:xfrm>
              <a:off x="6732720" y="2781360"/>
              <a:ext cx="219528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Fosforilación a nivel del sustr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8"/>
            <p:cNvSpPr/>
            <p:nvPr/>
          </p:nvSpPr>
          <p:spPr>
            <a:xfrm>
              <a:off x="3780000" y="549360"/>
              <a:ext cx="863280" cy="71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21"/>
          <p:cNvGrpSpPr/>
          <p:nvPr/>
        </p:nvGrpSpPr>
        <p:grpSpPr>
          <a:xfrm>
            <a:off x="1187280" y="4005360"/>
            <a:ext cx="5977080" cy="2044080"/>
            <a:chOff x="1187280" y="4005360"/>
            <a:chExt cx="5977080" cy="2044080"/>
          </a:xfrm>
        </p:grpSpPr>
        <p:pic>
          <p:nvPicPr>
            <p:cNvPr id="168" name="Picture 12" descr="sp4571"/>
            <p:cNvPicPr/>
            <p:nvPr/>
          </p:nvPicPr>
          <p:blipFill>
            <a:blip r:embed="rId2"/>
            <a:srcRect l="0" t="0" r="26509" b="18692"/>
            <a:stretch/>
          </p:blipFill>
          <p:spPr>
            <a:xfrm>
              <a:off x="1187280" y="4149720"/>
              <a:ext cx="5977080" cy="14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13"/>
            <p:cNvSpPr/>
            <p:nvPr/>
          </p:nvSpPr>
          <p:spPr>
            <a:xfrm>
              <a:off x="1187280" y="5541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3-P-Glicera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4"/>
            <p:cNvSpPr/>
            <p:nvPr/>
          </p:nvSpPr>
          <p:spPr>
            <a:xfrm>
              <a:off x="4765680" y="5589720"/>
              <a:ext cx="225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2-P-Glicera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6"/>
            <p:cNvSpPr/>
            <p:nvPr/>
          </p:nvSpPr>
          <p:spPr>
            <a:xfrm>
              <a:off x="3348000" y="4941720"/>
              <a:ext cx="180036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Arial"/>
                </a:rPr>
                <a:t>P-glicerato mut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0"/>
            <p:cNvSpPr/>
            <p:nvPr/>
          </p:nvSpPr>
          <p:spPr>
            <a:xfrm>
              <a:off x="3564000" y="4005360"/>
              <a:ext cx="1008000" cy="79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18"/>
          <p:cNvGrpSpPr/>
          <p:nvPr/>
        </p:nvGrpSpPr>
        <p:grpSpPr>
          <a:xfrm>
            <a:off x="179280" y="730080"/>
            <a:ext cx="8856720" cy="2437920"/>
            <a:chOff x="179280" y="730080"/>
            <a:chExt cx="8856720" cy="2437920"/>
          </a:xfrm>
        </p:grpSpPr>
        <p:grpSp>
          <p:nvGrpSpPr>
            <p:cNvPr id="174" name="Group 16"/>
            <p:cNvGrpSpPr/>
            <p:nvPr/>
          </p:nvGrpSpPr>
          <p:grpSpPr>
            <a:xfrm>
              <a:off x="179280" y="730080"/>
              <a:ext cx="8856720" cy="2437920"/>
              <a:chOff x="179280" y="730080"/>
              <a:chExt cx="8856720" cy="2437920"/>
            </a:xfrm>
          </p:grpSpPr>
          <p:pic>
            <p:nvPicPr>
              <p:cNvPr id="175" name="Picture 4" descr="sp4573"/>
              <p:cNvPicPr/>
              <p:nvPr/>
            </p:nvPicPr>
            <p:blipFill>
              <a:blip r:embed="rId1"/>
              <a:srcRect l="0" t="0" r="22706" b="23182"/>
              <a:stretch/>
            </p:blipFill>
            <p:spPr>
              <a:xfrm>
                <a:off x="179280" y="730080"/>
                <a:ext cx="8856720" cy="20098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76" name="Rectangle 5"/>
              <p:cNvSpPr/>
              <p:nvPr/>
            </p:nvSpPr>
            <p:spPr>
              <a:xfrm>
                <a:off x="611280" y="2708280"/>
                <a:ext cx="21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2-P-Glicerato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6"/>
              <p:cNvSpPr/>
              <p:nvPr/>
            </p:nvSpPr>
            <p:spPr>
              <a:xfrm>
                <a:off x="5019480" y="2708280"/>
                <a:ext cx="3009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Fosfoenol piruvato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11"/>
              <p:cNvSpPr/>
              <p:nvPr/>
            </p:nvSpPr>
            <p:spPr>
              <a:xfrm>
                <a:off x="2916360" y="1916280"/>
                <a:ext cx="180000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000" spc="-1" strike="noStrike">
                    <a:solidFill>
                      <a:srgbClr val="ff0000"/>
                    </a:solidFill>
                    <a:latin typeface="Arial"/>
                  </a:rPr>
                  <a:t>Enol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Oval 17"/>
            <p:cNvSpPr/>
            <p:nvPr/>
          </p:nvSpPr>
          <p:spPr>
            <a:xfrm>
              <a:off x="3276720" y="907920"/>
              <a:ext cx="1008000" cy="79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0"/>
          <p:cNvGrpSpPr/>
          <p:nvPr/>
        </p:nvGrpSpPr>
        <p:grpSpPr>
          <a:xfrm>
            <a:off x="107640" y="3645000"/>
            <a:ext cx="8928360" cy="2991240"/>
            <a:chOff x="107640" y="3645000"/>
            <a:chExt cx="8928360" cy="2991240"/>
          </a:xfrm>
        </p:grpSpPr>
        <p:pic>
          <p:nvPicPr>
            <p:cNvPr id="181" name="Picture 7" descr="sp4574"/>
            <p:cNvPicPr/>
            <p:nvPr/>
          </p:nvPicPr>
          <p:blipFill>
            <a:blip r:embed="rId2"/>
            <a:srcRect l="4952" t="0" r="21381" b="20317"/>
            <a:stretch/>
          </p:blipFill>
          <p:spPr>
            <a:xfrm>
              <a:off x="395280" y="3645000"/>
              <a:ext cx="8353440" cy="1692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82" name="Rectangle 9"/>
            <p:cNvSpPr/>
            <p:nvPr/>
          </p:nvSpPr>
          <p:spPr>
            <a:xfrm>
              <a:off x="107640" y="5468760"/>
              <a:ext cx="300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osfoenol piruva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5317560" y="554184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Piruva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2"/>
            <p:cNvSpPr/>
            <p:nvPr/>
          </p:nvSpPr>
          <p:spPr>
            <a:xfrm>
              <a:off x="3851280" y="4724280"/>
              <a:ext cx="180036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Arial"/>
                </a:rPr>
                <a:t>Piruvato quin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3"/>
            <p:cNvSpPr/>
            <p:nvPr/>
          </p:nvSpPr>
          <p:spPr>
            <a:xfrm>
              <a:off x="6730920" y="5445000"/>
              <a:ext cx="230508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Fosforilación a nivel del sustr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>
              <a:off x="4140360" y="4508640"/>
              <a:ext cx="172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4"/>
            <p:cNvSpPr/>
            <p:nvPr/>
          </p:nvSpPr>
          <p:spPr>
            <a:xfrm>
              <a:off x="4356000" y="3933720"/>
              <a:ext cx="1008000" cy="79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++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, K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UACION GENERAL DE LA VIA GLICOLI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24000" y="2205000"/>
            <a:ext cx="8388360" cy="733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SA  +  2 ADP  +  2 Pi  +  2 NAD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324000" y="4508640"/>
            <a:ext cx="8675640" cy="822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2 PIRUVATO  +  2 ATP  +  2 NADH +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4"/>
          <p:cNvSpPr/>
          <p:nvPr/>
        </p:nvSpPr>
        <p:spPr>
          <a:xfrm>
            <a:off x="4140360" y="3141720"/>
            <a:ext cx="0" cy="115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777960"/>
          </a:xfrm>
          <a:prstGeom prst="rect">
            <a:avLst/>
          </a:prstGeom>
          <a:gradFill rotWithShape="0">
            <a:gsLst>
              <a:gs pos="0">
                <a:srgbClr val="4a4a68"/>
              </a:gs>
              <a:gs pos="50000">
                <a:srgbClr val="a0a0e0"/>
              </a:gs>
              <a:gs pos="100000">
                <a:srgbClr val="4a4a68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untos de Regulación de la Glicólisi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38040" y="981000"/>
            <a:ext cx="8569440" cy="66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TRES REACCIONES QUÍMICAS IRREVER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1°  Punt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HEXOQUINASA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2° Punt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FOSFOFRUCTOQUINASA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(-) ATP, NADH, Citrato y AG de cadena l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(+) ADP ó 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Principal punto de control de la Vía Glic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3° Punt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PIRUVATO QUI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5580000" y="2135160"/>
            <a:ext cx="3384720" cy="86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(-)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Glucosa 6 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(-)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TP </a:t>
            </a: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(+)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5076720" y="5734080"/>
            <a:ext cx="30243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(-)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(+)  Fruc-1,6-bis-P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BALANCE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NERGE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971640" y="2133720"/>
            <a:ext cx="7632720" cy="520560"/>
          </a:xfrm>
          <a:prstGeom prst="rect">
            <a:avLst/>
          </a:prstGeom>
          <a:solidFill>
            <a:srgbClr val="a2faf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ASE PREPARATORIA: 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 gastan 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971640" y="3429000"/>
            <a:ext cx="7632720" cy="520560"/>
          </a:xfrm>
          <a:prstGeom prst="rect">
            <a:avLst/>
          </a:prstGeom>
          <a:solidFill>
            <a:srgbClr val="a2faf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ASE DE BENEFICIO:   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Se producen 4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6"/>
          <p:cNvSpPr/>
          <p:nvPr/>
        </p:nvSpPr>
        <p:spPr>
          <a:xfrm>
            <a:off x="1258920" y="4292640"/>
            <a:ext cx="655308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ndimiento de la Vía Glic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916360" y="551664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8"/>
          <p:cNvSpPr/>
          <p:nvPr/>
        </p:nvSpPr>
        <p:spPr>
          <a:xfrm>
            <a:off x="3995640" y="5300640"/>
            <a:ext cx="158436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RADA DE OTROS MONOSACARIDOS A LA VIA GLICOLI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solidFill>
            <a:srgbClr val="ffffb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RUCT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AN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ALACT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"/>
          <p:cNvSpPr/>
          <p:nvPr/>
        </p:nvSpPr>
        <p:spPr>
          <a:xfrm flipV="1">
            <a:off x="3419640" y="2133360"/>
            <a:ext cx="1223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3503520" y="2552400"/>
            <a:ext cx="1214640" cy="20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4572000" y="5157720"/>
            <a:ext cx="4103640" cy="39888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l-1-P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Glu-6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4859280" y="1916280"/>
            <a:ext cx="3313080" cy="39888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ru-1-P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li-3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8"/>
          <p:cNvSpPr/>
          <p:nvPr/>
        </p:nvSpPr>
        <p:spPr>
          <a:xfrm>
            <a:off x="5940360" y="220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"/>
          <p:cNvSpPr/>
          <p:nvPr/>
        </p:nvSpPr>
        <p:spPr>
          <a:xfrm>
            <a:off x="6372360" y="220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4859280" y="2565360"/>
            <a:ext cx="3456000" cy="39888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ructosa          Fructosa-6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6084720" y="2781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2"/>
          <p:cNvSpPr/>
          <p:nvPr/>
        </p:nvSpPr>
        <p:spPr>
          <a:xfrm>
            <a:off x="55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594036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63738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6805440" y="5373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4500720" y="3860640"/>
            <a:ext cx="3889080" cy="39888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osa-6-P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Fructosa-6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6084720" y="4076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 flipV="1">
            <a:off x="3058200" y="4181400"/>
            <a:ext cx="108144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 flipV="1">
            <a:off x="3491280" y="5331960"/>
            <a:ext cx="1081800" cy="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1"/>
          <p:cNvSpPr/>
          <p:nvPr/>
        </p:nvSpPr>
        <p:spPr>
          <a:xfrm>
            <a:off x="399564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3150360" y="928800"/>
            <a:ext cx="2309760" cy="1528560"/>
            <a:chOff x="3150360" y="928800"/>
            <a:chExt cx="2309760" cy="1528560"/>
          </a:xfrm>
        </p:grpSpPr>
        <p:sp>
          <p:nvSpPr>
            <p:cNvPr id="222" name="Text Box 4"/>
            <p:cNvSpPr/>
            <p:nvPr/>
          </p:nvSpPr>
          <p:spPr>
            <a:xfrm>
              <a:off x="3249000" y="928800"/>
              <a:ext cx="195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5"/>
            <p:cNvSpPr/>
            <p:nvPr/>
          </p:nvSpPr>
          <p:spPr>
            <a:xfrm>
              <a:off x="392256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6"/>
            <p:cNvSpPr/>
            <p:nvPr/>
          </p:nvSpPr>
          <p:spPr>
            <a:xfrm>
              <a:off x="3150360" y="1936800"/>
              <a:ext cx="2309760" cy="52056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7"/>
            <p:cNvSpPr/>
            <p:nvPr/>
          </p:nvSpPr>
          <p:spPr>
            <a:xfrm>
              <a:off x="3924360" y="1433520"/>
              <a:ext cx="69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9"/>
          <p:cNvSpPr/>
          <p:nvPr/>
        </p:nvSpPr>
        <p:spPr>
          <a:xfrm>
            <a:off x="6443640" y="2492280"/>
            <a:ext cx="247320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EROB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5619600" y="2421000"/>
            <a:ext cx="82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2918160" y="5157720"/>
            <a:ext cx="243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Arial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Arial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179280" y="458136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Arial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Arial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2"/>
          <p:cNvSpPr/>
          <p:nvPr/>
        </p:nvSpPr>
        <p:spPr>
          <a:xfrm>
            <a:off x="3150720" y="3954600"/>
            <a:ext cx="126576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Arial"/>
              </a:rPr>
              <a:t>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4"/>
          <p:cNvSpPr/>
          <p:nvPr/>
        </p:nvSpPr>
        <p:spPr>
          <a:xfrm flipH="1">
            <a:off x="1403280" y="2276640"/>
            <a:ext cx="172872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58720" y="3736800"/>
            <a:ext cx="174276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7"/>
          <p:cNvSpPr/>
          <p:nvPr/>
        </p:nvSpPr>
        <p:spPr>
          <a:xfrm>
            <a:off x="4932360" y="2492280"/>
            <a:ext cx="1657440" cy="93672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4962240" y="3789360"/>
            <a:ext cx="364356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2 Acetil-CoA + 2 CO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5906520" y="5445000"/>
            <a:ext cx="237420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4 CO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+ 4 H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1"/>
          <p:cNvSpPr/>
          <p:nvPr/>
        </p:nvSpPr>
        <p:spPr>
          <a:xfrm>
            <a:off x="6588000" y="4581360"/>
            <a:ext cx="0" cy="71928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6951960" y="4581360"/>
            <a:ext cx="18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.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3"/>
          <p:cNvSpPr/>
          <p:nvPr/>
        </p:nvSpPr>
        <p:spPr>
          <a:xfrm>
            <a:off x="6804000" y="4508640"/>
            <a:ext cx="2124000" cy="64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5796000" y="6165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990033"/>
                </a:solidFill>
                <a:latin typeface="Arial"/>
              </a:rPr>
              <a:t>Células ani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39640" y="189000"/>
            <a:ext cx="8136000" cy="776160"/>
          </a:xfrm>
          <a:prstGeom prst="rect">
            <a:avLst/>
          </a:prstGeom>
          <a:gradFill rotWithShape="0">
            <a:gsLst>
              <a:gs pos="0">
                <a:srgbClr val="536a6d"/>
              </a:gs>
              <a:gs pos="50000">
                <a:srgbClr val="b3e6eb"/>
              </a:gs>
              <a:gs pos="100000">
                <a:srgbClr val="536a6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DESTINO DEL 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1"/>
          <p:cNvGrpSpPr/>
          <p:nvPr/>
        </p:nvGrpSpPr>
        <p:grpSpPr>
          <a:xfrm>
            <a:off x="2293200" y="2460600"/>
            <a:ext cx="2239560" cy="853920"/>
            <a:chOff x="2293200" y="2460600"/>
            <a:chExt cx="2239560" cy="853920"/>
          </a:xfrm>
        </p:grpSpPr>
        <p:sp>
          <p:nvSpPr>
            <p:cNvPr id="242" name="Text Box 12"/>
            <p:cNvSpPr/>
            <p:nvPr/>
          </p:nvSpPr>
          <p:spPr>
            <a:xfrm>
              <a:off x="2293200" y="2793960"/>
              <a:ext cx="223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800" spc="-1" strike="noStrike">
                  <a:solidFill>
                    <a:srgbClr val="000000"/>
                  </a:solidFill>
                  <a:latin typeface="Arial"/>
                </a:rPr>
                <a:t>Anaerobiosi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Group 13"/>
            <p:cNvGrpSpPr/>
            <p:nvPr/>
          </p:nvGrpSpPr>
          <p:grpSpPr>
            <a:xfrm>
              <a:off x="2926440" y="2460600"/>
              <a:ext cx="570960" cy="607680"/>
              <a:chOff x="2926440" y="2460600"/>
              <a:chExt cx="570960" cy="607680"/>
            </a:xfrm>
          </p:grpSpPr>
          <p:sp>
            <p:nvSpPr>
              <p:cNvPr id="244" name="Text Box 14"/>
              <p:cNvSpPr/>
              <p:nvPr/>
            </p:nvSpPr>
            <p:spPr>
              <a:xfrm>
                <a:off x="2926440" y="2460600"/>
                <a:ext cx="5709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Group 15"/>
              <p:cNvGrpSpPr/>
              <p:nvPr/>
            </p:nvGrpSpPr>
            <p:grpSpPr>
              <a:xfrm>
                <a:off x="2946600" y="2573640"/>
                <a:ext cx="409320" cy="494640"/>
                <a:chOff x="2946600" y="2573640"/>
                <a:chExt cx="409320" cy="494640"/>
              </a:xfrm>
            </p:grpSpPr>
            <p:sp>
              <p:nvSpPr>
                <p:cNvPr id="246" name="Line 16"/>
                <p:cNvSpPr/>
                <p:nvPr/>
              </p:nvSpPr>
              <p:spPr>
                <a:xfrm>
                  <a:off x="2946600" y="2573640"/>
                  <a:ext cx="409320" cy="4946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17"/>
                <p:cNvSpPr/>
                <p:nvPr/>
              </p:nvSpPr>
              <p:spPr>
                <a:xfrm flipH="1">
                  <a:off x="2947320" y="2573640"/>
                  <a:ext cx="407880" cy="432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QUE OCURRE EN CONDICIONES ANAERÓBICA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611280" y="2276640"/>
            <a:ext cx="7920000" cy="101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LA CELULA DEBE REOXIDAR EL NADH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QUE LA VIA GLICOLITICA PUEDA FUNCIONAR 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971640" y="4076640"/>
            <a:ext cx="7345440" cy="16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EGÚN LA CELULA O MICROORGANISMO DE QUE SE TRATE EXISTEN DIFERENTES VIAS DE FERMENTAC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7"/>
          <p:cNvGrpSpPr/>
          <p:nvPr/>
        </p:nvGrpSpPr>
        <p:grpSpPr>
          <a:xfrm>
            <a:off x="179280" y="981000"/>
            <a:ext cx="8926560" cy="2176560"/>
            <a:chOff x="179280" y="981000"/>
            <a:chExt cx="8926560" cy="2176560"/>
          </a:xfrm>
        </p:grpSpPr>
        <p:pic>
          <p:nvPicPr>
            <p:cNvPr id="252" name="Picture 4" descr="sp4621"/>
            <p:cNvPicPr/>
            <p:nvPr/>
          </p:nvPicPr>
          <p:blipFill>
            <a:blip r:embed="rId1"/>
            <a:srcRect l="0" t="0" r="0" b="28230"/>
            <a:stretch/>
          </p:blipFill>
          <p:spPr>
            <a:xfrm>
              <a:off x="179280" y="981000"/>
              <a:ext cx="8926560" cy="11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5"/>
            <p:cNvSpPr/>
            <p:nvPr/>
          </p:nvSpPr>
          <p:spPr>
            <a:xfrm>
              <a:off x="181800" y="2637000"/>
              <a:ext cx="170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Piruvato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3564000" y="2492280"/>
              <a:ext cx="24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Acetaldehído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7504920" y="2394000"/>
              <a:ext cx="13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Etano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5219640" y="1916280"/>
              <a:ext cx="2160720" cy="55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Alcoh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1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deshidrogenasa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1835280" y="1989000"/>
              <a:ext cx="2028600" cy="60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397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Piruvat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397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descarboxil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15"/>
          <p:cNvSpPr/>
          <p:nvPr/>
        </p:nvSpPr>
        <p:spPr>
          <a:xfrm>
            <a:off x="142920" y="31680"/>
            <a:ext cx="8893080" cy="581400"/>
          </a:xfrm>
          <a:prstGeom prst="rect">
            <a:avLst/>
          </a:prstGeom>
          <a:gradFill rotWithShape="0">
            <a:gsLst>
              <a:gs pos="0">
                <a:srgbClr val="536a6d"/>
              </a:gs>
              <a:gs pos="50000">
                <a:srgbClr val="b3e6eb"/>
              </a:gs>
              <a:gs pos="100000">
                <a:srgbClr val="536a6d"/>
              </a:gs>
            </a:gsLst>
            <a:lin ang="5400000"/>
          </a:gradFill>
          <a:ln w="9360">
            <a:solidFill>
              <a:srgbClr val="a4f4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ERMENTACION ALCOHO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2268360" y="1844640"/>
            <a:ext cx="1079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1"/>
          <p:cNvGrpSpPr/>
          <p:nvPr/>
        </p:nvGrpSpPr>
        <p:grpSpPr>
          <a:xfrm>
            <a:off x="177840" y="3500280"/>
            <a:ext cx="8497800" cy="2582640"/>
            <a:chOff x="177840" y="3500280"/>
            <a:chExt cx="8497800" cy="2582640"/>
          </a:xfrm>
        </p:grpSpPr>
        <p:grpSp>
          <p:nvGrpSpPr>
            <p:cNvPr id="261" name="Group 29"/>
            <p:cNvGrpSpPr/>
            <p:nvPr/>
          </p:nvGrpSpPr>
          <p:grpSpPr>
            <a:xfrm>
              <a:off x="177840" y="3500280"/>
              <a:ext cx="8497800" cy="2582640"/>
              <a:chOff x="177840" y="3500280"/>
              <a:chExt cx="8497800" cy="2582640"/>
            </a:xfrm>
          </p:grpSpPr>
          <p:grpSp>
            <p:nvGrpSpPr>
              <p:cNvPr id="262" name="Group 28"/>
              <p:cNvGrpSpPr/>
              <p:nvPr/>
            </p:nvGrpSpPr>
            <p:grpSpPr>
              <a:xfrm>
                <a:off x="177840" y="3500280"/>
                <a:ext cx="8497800" cy="2582640"/>
                <a:chOff x="177840" y="3500280"/>
                <a:chExt cx="8497800" cy="2582640"/>
              </a:xfrm>
            </p:grpSpPr>
            <p:sp>
              <p:nvSpPr>
                <p:cNvPr id="263" name="Text Box 11"/>
                <p:cNvSpPr/>
                <p:nvPr/>
              </p:nvSpPr>
              <p:spPr>
                <a:xfrm>
                  <a:off x="898560" y="4365360"/>
                  <a:ext cx="7129440" cy="128664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        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Arial"/>
                    </a:rPr>
                    <a:t>NAD</a:t>
                  </a:r>
                  <a:r>
                    <a:rPr b="1" lang="es-ES" sz="1600" spc="-1" strike="noStrike">
                      <a:solidFill>
                        <a:srgbClr val="333399"/>
                      </a:solidFill>
                      <a:latin typeface="Arial"/>
                    </a:rPr>
                    <a:t>H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Arial"/>
                    </a:rPr>
                    <a:t> + H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Arial"/>
                    </a:rPr>
                    <a:t>            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Arial"/>
                    </a:rPr>
                    <a:t>NAD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s-E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Arial"/>
                    </a:rPr>
                    <a:t>_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C 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Arial"/>
                    </a:rPr>
                    <a:t>_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COO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Arial"/>
                    </a:rPr>
                    <a:t>-                                                                           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s-E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Arial"/>
                    </a:rPr>
                    <a:t>_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Arial"/>
                    </a:rPr>
                    <a:t>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COO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Text Box 14"/>
                <p:cNvSpPr/>
                <p:nvPr/>
              </p:nvSpPr>
              <p:spPr>
                <a:xfrm>
                  <a:off x="177840" y="3500280"/>
                  <a:ext cx="8497800" cy="58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36a6d"/>
                    </a:gs>
                    <a:gs pos="50000">
                      <a:srgbClr val="b3e6eb"/>
                    </a:gs>
                    <a:gs pos="100000">
                      <a:srgbClr val="536a6d"/>
                    </a:gs>
                  </a:gsLst>
                  <a:lin ang="5400000"/>
                </a:gradFill>
                <a:ln w="9360">
                  <a:solidFill>
                    <a:srgbClr val="a4f4f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3200" spc="-1" strike="noStrike">
                      <a:solidFill>
                        <a:srgbClr val="000000"/>
                      </a:solidFill>
                      <a:latin typeface="Arial"/>
                    </a:rPr>
                    <a:t>FERMENTACION LACTIC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19"/>
                <p:cNvSpPr/>
                <p:nvPr/>
              </p:nvSpPr>
              <p:spPr>
                <a:xfrm>
                  <a:off x="972360" y="5562360"/>
                  <a:ext cx="1701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99"/>
                      </a:solidFill>
                      <a:latin typeface="Arial"/>
                    </a:rPr>
                    <a:t>Piruvato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0"/>
                <p:cNvSpPr/>
                <p:nvPr/>
              </p:nvSpPr>
              <p:spPr>
                <a:xfrm>
                  <a:off x="6230880" y="5562360"/>
                  <a:ext cx="1445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99"/>
                      </a:solidFill>
                      <a:latin typeface="Arial"/>
                    </a:rPr>
                    <a:t>Lactat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Text Box 13"/>
                <p:cNvSpPr/>
                <p:nvPr/>
              </p:nvSpPr>
              <p:spPr>
                <a:xfrm>
                  <a:off x="3128760" y="5084640"/>
                  <a:ext cx="2233800" cy="70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2000" spc="-1" strike="noStrike">
                      <a:solidFill>
                        <a:srgbClr val="ff0000"/>
                      </a:solidFill>
                      <a:latin typeface="Arial"/>
                    </a:rPr>
                    <a:t>Lactato deshidrogenas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Freeform 21"/>
              <p:cNvSpPr/>
              <p:nvPr/>
            </p:nvSpPr>
            <p:spPr>
              <a:xfrm>
                <a:off x="3419280" y="4725720"/>
                <a:ext cx="1224000" cy="2160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22"/>
              <p:cNvSpPr/>
              <p:nvPr/>
            </p:nvSpPr>
            <p:spPr>
              <a:xfrm>
                <a:off x="1690560" y="472572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23"/>
              <p:cNvSpPr/>
              <p:nvPr/>
            </p:nvSpPr>
            <p:spPr>
              <a:xfrm>
                <a:off x="1762200" y="472428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25"/>
              <p:cNvSpPr/>
              <p:nvPr/>
            </p:nvSpPr>
            <p:spPr>
              <a:xfrm>
                <a:off x="6586560" y="465300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Line 30"/>
            <p:cNvSpPr/>
            <p:nvPr/>
          </p:nvSpPr>
          <p:spPr>
            <a:xfrm>
              <a:off x="2878200" y="5013360"/>
              <a:ext cx="287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racterísticas de la  VIA GLICOLITICA ó Vía de Embde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yerh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XIDACION DE (1) GLUCOSA-6-FOSFATO HASTA (2) 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TENCION DE ENERGIA COMO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TILIZACION DE INTERMEDIARIOS PARA OTRAS VIAS METABOL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4000" y="5364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QUE OCURRE EN CONDICIONES AERÓBICAS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4"/>
          <p:cNvGrpSpPr/>
          <p:nvPr/>
        </p:nvGrpSpPr>
        <p:grpSpPr>
          <a:xfrm>
            <a:off x="826920" y="1557360"/>
            <a:ext cx="6696360" cy="1006200"/>
            <a:chOff x="826920" y="1557360"/>
            <a:chExt cx="6696360" cy="1006200"/>
          </a:xfrm>
        </p:grpSpPr>
        <p:sp>
          <p:nvSpPr>
            <p:cNvPr id="275" name="Text Box 4"/>
            <p:cNvSpPr/>
            <p:nvPr/>
          </p:nvSpPr>
          <p:spPr>
            <a:xfrm>
              <a:off x="826920" y="1557360"/>
              <a:ext cx="6696360" cy="1006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PIRUVATO</a:t>
              </a: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CO</a:t>
              </a:r>
              <a:r>
                <a:rPr b="1" lang="es-ES" sz="28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  +  H</a:t>
              </a:r>
              <a:r>
                <a:rPr b="1" lang="es-ES" sz="28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s-ES" sz="2800" spc="-1" strike="noStrike">
                  <a:solidFill>
                    <a:srgbClr val="333399"/>
                  </a:solidFill>
                  <a:latin typeface="Arial"/>
                </a:rPr>
                <a:t>0    (Ciclo de Kreb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5"/>
            <p:cNvSpPr/>
            <p:nvPr/>
          </p:nvSpPr>
          <p:spPr>
            <a:xfrm>
              <a:off x="3274920" y="1846440"/>
              <a:ext cx="86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6"/>
          <p:cNvSpPr/>
          <p:nvPr/>
        </p:nvSpPr>
        <p:spPr>
          <a:xfrm>
            <a:off x="324000" y="3645000"/>
            <a:ext cx="8424720" cy="3115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NADH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NAD+    (Sistema de lanzade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7"/>
          <p:cNvSpPr/>
          <p:nvPr/>
        </p:nvSpPr>
        <p:spPr>
          <a:xfrm>
            <a:off x="1979640" y="3860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8"/>
          <p:cNvSpPr/>
          <p:nvPr/>
        </p:nvSpPr>
        <p:spPr>
          <a:xfrm>
            <a:off x="4500720" y="443700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4788000" y="4484520"/>
            <a:ext cx="360036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v. de re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5435640" y="2565360"/>
            <a:ext cx="2808360" cy="94716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Arial"/>
              </a:rPr>
              <a:t>Cadena respira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1763640" y="5445000"/>
            <a:ext cx="52578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RODUCCION DE 4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ó 6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7"/>
          <p:cNvSpPr/>
          <p:nvPr/>
        </p:nvSpPr>
        <p:spPr>
          <a:xfrm>
            <a:off x="2340000" y="3357720"/>
            <a:ext cx="792000" cy="457200"/>
          </a:xfrm>
          <a:prstGeom prst="rect">
            <a:avLst/>
          </a:prstGeom>
          <a:solidFill>
            <a:srgbClr val="dddddd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" descr="fi15p11"/>
          <p:cNvPicPr/>
          <p:nvPr/>
        </p:nvPicPr>
        <p:blipFill>
          <a:blip r:embed="rId1"/>
          <a:srcRect l="5897" t="0" r="20256" b="45605"/>
          <a:stretch/>
        </p:blipFill>
        <p:spPr>
          <a:xfrm>
            <a:off x="468360" y="1844640"/>
            <a:ext cx="7993080" cy="409896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6"/>
          <p:cNvSpPr/>
          <p:nvPr/>
        </p:nvSpPr>
        <p:spPr>
          <a:xfrm>
            <a:off x="2484360" y="3645000"/>
            <a:ext cx="287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-dihidroxicet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340000" y="4724280"/>
            <a:ext cx="295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licerol 3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372360" y="2565360"/>
            <a:ext cx="2592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MATRIZ MITOCOND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2916360" y="1916280"/>
            <a:ext cx="1871640" cy="9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Membrana mit.ex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5148360" y="1700280"/>
            <a:ext cx="1800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Membrana mit.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372360" y="4365720"/>
            <a:ext cx="2771640" cy="825480"/>
          </a:xfrm>
          <a:prstGeom prst="rect">
            <a:avLst/>
          </a:prstGeom>
          <a:solidFill>
            <a:srgbClr val="b3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75115"/>
                </a:solidFill>
                <a:latin typeface="Arial"/>
              </a:rPr>
              <a:t>Glicerol 3 P Deshidroge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826920" y="2637000"/>
            <a:ext cx="194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539640" y="4724280"/>
            <a:ext cx="28908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142920" y="115920"/>
            <a:ext cx="8893080" cy="106884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ISTEMA DE LANZADERA DEL GLICEROFOSF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611280" y="5300640"/>
            <a:ext cx="2771640" cy="825480"/>
          </a:xfrm>
          <a:prstGeom prst="rect">
            <a:avLst/>
          </a:prstGeom>
          <a:solidFill>
            <a:srgbClr val="b3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75115"/>
                </a:solidFill>
                <a:latin typeface="Arial"/>
              </a:rPr>
              <a:t>Glicerol 3 P Deshidroge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7"/>
          <p:cNvSpPr/>
          <p:nvPr/>
        </p:nvSpPr>
        <p:spPr>
          <a:xfrm>
            <a:off x="2124000" y="3933720"/>
            <a:ext cx="287280" cy="1079640"/>
          </a:xfrm>
          <a:custGeom>
            <a:avLst/>
            <a:gdLst>
              <a:gd name="textAreaLeft" fmla="*/ 38520 w 287280"/>
              <a:gd name="textAreaRight" fmla="*/ 248760 w 28728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9"/>
          <p:cNvSpPr/>
          <p:nvPr/>
        </p:nvSpPr>
        <p:spPr>
          <a:xfrm>
            <a:off x="5580000" y="5084640"/>
            <a:ext cx="93672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D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0"/>
          <p:cNvSpPr/>
          <p:nvPr/>
        </p:nvSpPr>
        <p:spPr>
          <a:xfrm>
            <a:off x="5580000" y="3213000"/>
            <a:ext cx="100800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1"/>
          <p:cNvSpPr/>
          <p:nvPr/>
        </p:nvSpPr>
        <p:spPr>
          <a:xfrm flipV="1">
            <a:off x="6012000" y="4005360"/>
            <a:ext cx="0" cy="107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22"/>
          <p:cNvSpPr/>
          <p:nvPr/>
        </p:nvSpPr>
        <p:spPr>
          <a:xfrm>
            <a:off x="611280" y="4508640"/>
            <a:ext cx="93636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23"/>
          <p:cNvSpPr/>
          <p:nvPr/>
        </p:nvSpPr>
        <p:spPr>
          <a:xfrm>
            <a:off x="539640" y="3500280"/>
            <a:ext cx="165600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DH + 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1547640" y="0"/>
            <a:ext cx="5540400" cy="6858000"/>
            <a:chOff x="1547640" y="0"/>
            <a:chExt cx="5540400" cy="6858000"/>
          </a:xfrm>
        </p:grpSpPr>
        <p:pic>
          <p:nvPicPr>
            <p:cNvPr id="59" name="Picture 6" descr=""/>
            <p:cNvPicPr/>
            <p:nvPr/>
          </p:nvPicPr>
          <p:blipFill>
            <a:blip r:embed="rId1"/>
            <a:stretch/>
          </p:blipFill>
          <p:spPr>
            <a:xfrm>
              <a:off x="1725480" y="0"/>
              <a:ext cx="5362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Rectangle 4"/>
            <p:cNvSpPr/>
            <p:nvPr/>
          </p:nvSpPr>
          <p:spPr>
            <a:xfrm>
              <a:off x="1547640" y="333360"/>
              <a:ext cx="57636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5"/>
          <p:cNvSpPr/>
          <p:nvPr/>
        </p:nvSpPr>
        <p:spPr>
          <a:xfrm>
            <a:off x="250920" y="189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6C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843280" y="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ff"/>
                </a:solidFill>
                <a:uFillTx/>
                <a:latin typeface="Arial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7"/>
          <p:cNvGrpSpPr/>
          <p:nvPr/>
        </p:nvGrpSpPr>
        <p:grpSpPr>
          <a:xfrm>
            <a:off x="900000" y="260280"/>
            <a:ext cx="1729080" cy="360360"/>
            <a:chOff x="900000" y="260280"/>
            <a:chExt cx="1729080" cy="360360"/>
          </a:xfrm>
        </p:grpSpPr>
        <p:sp>
          <p:nvSpPr>
            <p:cNvPr id="64" name="Oval 8"/>
            <p:cNvSpPr/>
            <p:nvPr/>
          </p:nvSpPr>
          <p:spPr>
            <a:xfrm>
              <a:off x="90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9"/>
            <p:cNvSpPr/>
            <p:nvPr/>
          </p:nvSpPr>
          <p:spPr>
            <a:xfrm>
              <a:off x="118728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10"/>
            <p:cNvSpPr/>
            <p:nvPr/>
          </p:nvSpPr>
          <p:spPr>
            <a:xfrm>
              <a:off x="147636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1"/>
            <p:cNvSpPr/>
            <p:nvPr/>
          </p:nvSpPr>
          <p:spPr>
            <a:xfrm>
              <a:off x="176364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2"/>
            <p:cNvSpPr/>
            <p:nvPr/>
          </p:nvSpPr>
          <p:spPr>
            <a:xfrm>
              <a:off x="2052720" y="26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3"/>
            <p:cNvSpPr/>
            <p:nvPr/>
          </p:nvSpPr>
          <p:spPr>
            <a:xfrm>
              <a:off x="234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4"/>
          <p:cNvGrpSpPr/>
          <p:nvPr/>
        </p:nvGrpSpPr>
        <p:grpSpPr>
          <a:xfrm>
            <a:off x="971640" y="2060640"/>
            <a:ext cx="1728360" cy="360360"/>
            <a:chOff x="971640" y="2060640"/>
            <a:chExt cx="1728360" cy="360360"/>
          </a:xfrm>
        </p:grpSpPr>
        <p:sp>
          <p:nvSpPr>
            <p:cNvPr id="71" name="Oval 15"/>
            <p:cNvSpPr/>
            <p:nvPr/>
          </p:nvSpPr>
          <p:spPr>
            <a:xfrm>
              <a:off x="971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16"/>
            <p:cNvSpPr/>
            <p:nvPr/>
          </p:nvSpPr>
          <p:spPr>
            <a:xfrm>
              <a:off x="125856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17"/>
            <p:cNvSpPr/>
            <p:nvPr/>
          </p:nvSpPr>
          <p:spPr>
            <a:xfrm>
              <a:off x="1547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18"/>
            <p:cNvSpPr/>
            <p:nvPr/>
          </p:nvSpPr>
          <p:spPr>
            <a:xfrm>
              <a:off x="183492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9"/>
            <p:cNvSpPr/>
            <p:nvPr/>
          </p:nvSpPr>
          <p:spPr>
            <a:xfrm>
              <a:off x="2124000" y="2060640"/>
              <a:ext cx="28836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20"/>
            <p:cNvSpPr/>
            <p:nvPr/>
          </p:nvSpPr>
          <p:spPr>
            <a:xfrm>
              <a:off x="241128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21"/>
          <p:cNvGrpSpPr/>
          <p:nvPr/>
        </p:nvGrpSpPr>
        <p:grpSpPr>
          <a:xfrm>
            <a:off x="108000" y="2997360"/>
            <a:ext cx="865080" cy="360360"/>
            <a:chOff x="108000" y="2997360"/>
            <a:chExt cx="865080" cy="360360"/>
          </a:xfrm>
        </p:grpSpPr>
        <p:sp>
          <p:nvSpPr>
            <p:cNvPr id="78" name="Oval 22"/>
            <p:cNvSpPr/>
            <p:nvPr/>
          </p:nvSpPr>
          <p:spPr>
            <a:xfrm>
              <a:off x="10800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23"/>
            <p:cNvSpPr/>
            <p:nvPr/>
          </p:nvSpPr>
          <p:spPr>
            <a:xfrm>
              <a:off x="395280" y="2997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24"/>
            <p:cNvSpPr/>
            <p:nvPr/>
          </p:nvSpPr>
          <p:spPr>
            <a:xfrm>
              <a:off x="68436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25"/>
          <p:cNvGrpSpPr/>
          <p:nvPr/>
        </p:nvGrpSpPr>
        <p:grpSpPr>
          <a:xfrm>
            <a:off x="108000" y="3500280"/>
            <a:ext cx="864720" cy="360360"/>
            <a:chOff x="108000" y="3500280"/>
            <a:chExt cx="864720" cy="360360"/>
          </a:xfrm>
        </p:grpSpPr>
        <p:sp>
          <p:nvSpPr>
            <p:cNvPr id="82" name="Oval 26"/>
            <p:cNvSpPr/>
            <p:nvPr/>
          </p:nvSpPr>
          <p:spPr>
            <a:xfrm>
              <a:off x="108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7"/>
            <p:cNvSpPr/>
            <p:nvPr/>
          </p:nvSpPr>
          <p:spPr>
            <a:xfrm>
              <a:off x="39492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28"/>
            <p:cNvSpPr/>
            <p:nvPr/>
          </p:nvSpPr>
          <p:spPr>
            <a:xfrm>
              <a:off x="684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29"/>
          <p:cNvSpPr/>
          <p:nvPr/>
        </p:nvSpPr>
        <p:spPr>
          <a:xfrm>
            <a:off x="3059280" y="646128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ff"/>
                </a:solidFill>
                <a:uFillTx/>
                <a:latin typeface="Arial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0"/>
          <p:cNvSpPr/>
          <p:nvPr/>
        </p:nvSpPr>
        <p:spPr>
          <a:xfrm>
            <a:off x="241128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000"/>
                </a:solidFill>
                <a:latin typeface="Arial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1"/>
          <p:cNvSpPr/>
          <p:nvPr/>
        </p:nvSpPr>
        <p:spPr>
          <a:xfrm>
            <a:off x="2340000" y="3782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000"/>
                </a:solidFill>
                <a:latin typeface="Arial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2"/>
          <p:cNvSpPr/>
          <p:nvPr/>
        </p:nvSpPr>
        <p:spPr>
          <a:xfrm>
            <a:off x="234000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000"/>
                </a:solidFill>
                <a:latin typeface="Arial"/>
              </a:rPr>
              <a:t>NAD</a:t>
            </a:r>
            <a:r>
              <a:rPr b="1" lang="es-ES_tradnl" sz="1800" spc="-1" strike="noStrike" baseline="30000">
                <a:solidFill>
                  <a:srgbClr val="008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33"/>
          <p:cNvGrpSpPr/>
          <p:nvPr/>
        </p:nvGrpSpPr>
        <p:grpSpPr>
          <a:xfrm>
            <a:off x="4786200" y="6453360"/>
            <a:ext cx="865440" cy="360360"/>
            <a:chOff x="4786200" y="6453360"/>
            <a:chExt cx="865440" cy="360360"/>
          </a:xfrm>
        </p:grpSpPr>
        <p:sp>
          <p:nvSpPr>
            <p:cNvPr id="90" name="Oval 34"/>
            <p:cNvSpPr/>
            <p:nvPr/>
          </p:nvSpPr>
          <p:spPr>
            <a:xfrm>
              <a:off x="478620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35"/>
            <p:cNvSpPr/>
            <p:nvPr/>
          </p:nvSpPr>
          <p:spPr>
            <a:xfrm>
              <a:off x="507348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36"/>
            <p:cNvSpPr/>
            <p:nvPr/>
          </p:nvSpPr>
          <p:spPr>
            <a:xfrm>
              <a:off x="53625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37"/>
          <p:cNvGrpSpPr/>
          <p:nvPr/>
        </p:nvGrpSpPr>
        <p:grpSpPr>
          <a:xfrm>
            <a:off x="5940360" y="6453360"/>
            <a:ext cx="865080" cy="360360"/>
            <a:chOff x="5940360" y="6453360"/>
            <a:chExt cx="865080" cy="360360"/>
          </a:xfrm>
        </p:grpSpPr>
        <p:sp>
          <p:nvSpPr>
            <p:cNvPr id="94" name="Oval 38"/>
            <p:cNvSpPr/>
            <p:nvPr/>
          </p:nvSpPr>
          <p:spPr>
            <a:xfrm>
              <a:off x="59403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9"/>
            <p:cNvSpPr/>
            <p:nvPr/>
          </p:nvSpPr>
          <p:spPr>
            <a:xfrm>
              <a:off x="622764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40"/>
            <p:cNvSpPr/>
            <p:nvPr/>
          </p:nvSpPr>
          <p:spPr>
            <a:xfrm>
              <a:off x="6516720" y="6453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41"/>
          <p:cNvSpPr/>
          <p:nvPr/>
        </p:nvSpPr>
        <p:spPr>
          <a:xfrm>
            <a:off x="7236000" y="5611680"/>
            <a:ext cx="1834920" cy="12027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cet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Lac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2"/>
          <p:cNvSpPr/>
          <p:nvPr/>
        </p:nvSpPr>
        <p:spPr>
          <a:xfrm>
            <a:off x="2340000" y="6922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3"/>
          <p:cNvSpPr/>
          <p:nvPr/>
        </p:nvSpPr>
        <p:spPr>
          <a:xfrm>
            <a:off x="2987640" y="1989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4"/>
          <p:cNvSpPr/>
          <p:nvPr/>
        </p:nvSpPr>
        <p:spPr>
          <a:xfrm flipH="1">
            <a:off x="2987640" y="620640"/>
            <a:ext cx="43200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5"/>
          <p:cNvSpPr/>
          <p:nvPr/>
        </p:nvSpPr>
        <p:spPr>
          <a:xfrm flipH="1">
            <a:off x="341928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6"/>
          <p:cNvSpPr/>
          <p:nvPr/>
        </p:nvSpPr>
        <p:spPr>
          <a:xfrm>
            <a:off x="4067280" y="404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Hex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7"/>
          <p:cNvSpPr/>
          <p:nvPr/>
        </p:nvSpPr>
        <p:spPr>
          <a:xfrm>
            <a:off x="4067280" y="1052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som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8"/>
          <p:cNvSpPr/>
          <p:nvPr/>
        </p:nvSpPr>
        <p:spPr>
          <a:xfrm>
            <a:off x="4067280" y="1700280"/>
            <a:ext cx="1800000" cy="70380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Fosfofruc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9"/>
          <p:cNvSpPr/>
          <p:nvPr/>
        </p:nvSpPr>
        <p:spPr>
          <a:xfrm>
            <a:off x="3995640" y="2492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ld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0"/>
          <p:cNvSpPr/>
          <p:nvPr/>
        </p:nvSpPr>
        <p:spPr>
          <a:xfrm>
            <a:off x="3780000" y="328464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Glicer.deshidr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1"/>
          <p:cNvSpPr/>
          <p:nvPr/>
        </p:nvSpPr>
        <p:spPr>
          <a:xfrm>
            <a:off x="4140360" y="3860640"/>
            <a:ext cx="1800000" cy="70380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-Glicer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2"/>
          <p:cNvSpPr/>
          <p:nvPr/>
        </p:nvSpPr>
        <p:spPr>
          <a:xfrm>
            <a:off x="3851280" y="4724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3"/>
          <p:cNvSpPr/>
          <p:nvPr/>
        </p:nvSpPr>
        <p:spPr>
          <a:xfrm>
            <a:off x="3995640" y="5300640"/>
            <a:ext cx="129708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n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4"/>
          <p:cNvSpPr/>
          <p:nvPr/>
        </p:nvSpPr>
        <p:spPr>
          <a:xfrm>
            <a:off x="3780000" y="598500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iruv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539640" y="1070640"/>
            <a:ext cx="7920000" cy="5211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ff"/>
                </a:solidFill>
                <a:uFillTx/>
                <a:latin typeface="Arial"/>
              </a:rPr>
              <a:t>FASE I. (Reacciones 1-5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FASE PREPARATORI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osforilación de gluc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recogen esqueletos carbonados de otros monosacár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ragmentación de glucosa para dar 2 tr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asto de energía, se consumen 2 A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11280" y="112680"/>
            <a:ext cx="8281800" cy="727560"/>
          </a:xfrm>
          <a:prstGeom prst="rect">
            <a:avLst/>
          </a:prstGeom>
          <a:gradFill rotWithShape="0">
            <a:gsLst>
              <a:gs pos="0">
                <a:srgbClr val="57576b"/>
              </a:gs>
              <a:gs pos="50000">
                <a:srgbClr val="bdbde8"/>
              </a:gs>
              <a:gs pos="100000">
                <a:srgbClr val="57576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ases de la Vía Glico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395280" y="485640"/>
            <a:ext cx="7812000" cy="60663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FASE II (Reacciones 6-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FASE DE BENEF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xidación de los esqueletos carbonados de las dos TR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ducción de energía metabólica po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osforilación a nivel de sustrato (4 AT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ducción de equivalentes de reducción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2 NAD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producto final son 2 PIRUV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2" descr="fi13p3"/>
          <p:cNvPicPr/>
          <p:nvPr/>
        </p:nvPicPr>
        <p:blipFill>
          <a:blip r:embed="rId1"/>
          <a:srcRect l="2589" t="-369" r="1488" b="51307"/>
          <a:stretch/>
        </p:blipFill>
        <p:spPr>
          <a:xfrm>
            <a:off x="0" y="260280"/>
            <a:ext cx="9220320" cy="62658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3"/>
          <p:cNvSpPr/>
          <p:nvPr/>
        </p:nvSpPr>
        <p:spPr>
          <a:xfrm>
            <a:off x="3276720" y="1089000"/>
            <a:ext cx="1871640" cy="539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2700360" y="5084640"/>
            <a:ext cx="2374920" cy="779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liceraldehído-3 fos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5435640" y="5229360"/>
            <a:ext cx="230328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sfato de dihidroxicet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6156360" y="260280"/>
            <a:ext cx="298764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0" y="189000"/>
            <a:ext cx="8964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SE DE CONSUMO DE ENERGIA O FASE PREPA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2771640" y="3795840"/>
            <a:ext cx="3384720" cy="641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ructosa 1,6 bisfos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fi13p3"/>
          <p:cNvPicPr/>
          <p:nvPr/>
        </p:nvPicPr>
        <p:blipFill>
          <a:blip r:embed="rId1"/>
          <a:srcRect l="2589" t="49595" r="33316" b="-3297"/>
          <a:stretch/>
        </p:blipFill>
        <p:spPr>
          <a:xfrm>
            <a:off x="1042920" y="260280"/>
            <a:ext cx="616104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4211640" y="981000"/>
            <a:ext cx="2376360" cy="8254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,3 bisfosfo glice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284720" y="2565360"/>
            <a:ext cx="194472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 fosfo glice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211640" y="4149720"/>
            <a:ext cx="1944720" cy="8254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osfoenol  piruv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356000" y="5805360"/>
            <a:ext cx="180036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0"/>
            <a:ext cx="8964720" cy="47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ASE DE GENERACION DE ENERGI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13"/>
          <p:cNvGrpSpPr/>
          <p:nvPr/>
        </p:nvGrpSpPr>
        <p:grpSpPr>
          <a:xfrm>
            <a:off x="755640" y="907920"/>
            <a:ext cx="7453440" cy="2733840"/>
            <a:chOff x="755640" y="907920"/>
            <a:chExt cx="7453440" cy="2733840"/>
          </a:xfrm>
        </p:grpSpPr>
        <p:pic>
          <p:nvPicPr>
            <p:cNvPr id="128" name="Picture 4" descr="sp4521"/>
            <p:cNvPicPr/>
            <p:nvPr/>
          </p:nvPicPr>
          <p:blipFill>
            <a:blip r:embed="rId1"/>
            <a:srcRect l="0" t="0" r="21579" b="14817"/>
            <a:stretch/>
          </p:blipFill>
          <p:spPr>
            <a:xfrm>
              <a:off x="755640" y="907920"/>
              <a:ext cx="745344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5"/>
            <p:cNvSpPr/>
            <p:nvPr/>
          </p:nvSpPr>
          <p:spPr>
            <a:xfrm>
              <a:off x="826920" y="3121200"/>
              <a:ext cx="16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7"/>
            <p:cNvSpPr/>
            <p:nvPr/>
          </p:nvSpPr>
          <p:spPr>
            <a:xfrm>
              <a:off x="4646880" y="2997360"/>
              <a:ext cx="225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Glucosa-6-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1"/>
            <p:cNvSpPr/>
            <p:nvPr/>
          </p:nvSpPr>
          <p:spPr>
            <a:xfrm>
              <a:off x="2484360" y="2205000"/>
              <a:ext cx="21607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Hexoquin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4"/>
          <p:cNvGrpSpPr/>
          <p:nvPr/>
        </p:nvGrpSpPr>
        <p:grpSpPr>
          <a:xfrm>
            <a:off x="900000" y="3789360"/>
            <a:ext cx="7272360" cy="2681280"/>
            <a:chOff x="900000" y="3789360"/>
            <a:chExt cx="7272360" cy="2681280"/>
          </a:xfrm>
        </p:grpSpPr>
        <p:pic>
          <p:nvPicPr>
            <p:cNvPr id="133" name="Picture 8" descr="sp4523"/>
            <p:cNvPicPr/>
            <p:nvPr/>
          </p:nvPicPr>
          <p:blipFill>
            <a:blip r:embed="rId2"/>
            <a:srcRect l="0" t="0" r="0" b="12791"/>
            <a:stretch/>
          </p:blipFill>
          <p:spPr>
            <a:xfrm>
              <a:off x="900000" y="3789360"/>
              <a:ext cx="7272360" cy="17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9"/>
            <p:cNvSpPr/>
            <p:nvPr/>
          </p:nvSpPr>
          <p:spPr>
            <a:xfrm>
              <a:off x="1119600" y="5950080"/>
              <a:ext cx="225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Glucosa-6-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0"/>
            <p:cNvSpPr/>
            <p:nvPr/>
          </p:nvSpPr>
          <p:spPr>
            <a:xfrm>
              <a:off x="4504680" y="5878440"/>
              <a:ext cx="23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Fructosa-6-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2"/>
            <p:cNvSpPr/>
            <p:nvPr/>
          </p:nvSpPr>
          <p:spPr>
            <a:xfrm>
              <a:off x="2340000" y="5157720"/>
              <a:ext cx="22320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Arial"/>
                </a:rPr>
                <a:t>Fosfoglucosa isomer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16"/>
          <p:cNvGrpSpPr/>
          <p:nvPr/>
        </p:nvGrpSpPr>
        <p:grpSpPr>
          <a:xfrm>
            <a:off x="684360" y="3573360"/>
            <a:ext cx="7993080" cy="2816280"/>
            <a:chOff x="684360" y="3573360"/>
            <a:chExt cx="7993080" cy="2816280"/>
          </a:xfrm>
        </p:grpSpPr>
        <p:pic>
          <p:nvPicPr>
            <p:cNvPr id="138" name="Picture 7" descr="sp4541"/>
            <p:cNvPicPr/>
            <p:nvPr/>
          </p:nvPicPr>
          <p:blipFill>
            <a:blip r:embed="rId1"/>
            <a:srcRect l="0" t="0" r="21647" b="25194"/>
            <a:stretch/>
          </p:blipFill>
          <p:spPr>
            <a:xfrm>
              <a:off x="684360" y="3573360"/>
              <a:ext cx="741672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8"/>
            <p:cNvSpPr/>
            <p:nvPr/>
          </p:nvSpPr>
          <p:spPr>
            <a:xfrm>
              <a:off x="756720" y="5397480"/>
              <a:ext cx="282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ructosa-1, 6-bi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9"/>
            <p:cNvSpPr/>
            <p:nvPr/>
          </p:nvSpPr>
          <p:spPr>
            <a:xfrm>
              <a:off x="4067640" y="5373720"/>
              <a:ext cx="1758240" cy="10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Gliceralde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ído-3-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0"/>
            <p:cNvSpPr/>
            <p:nvPr/>
          </p:nvSpPr>
          <p:spPr>
            <a:xfrm>
              <a:off x="6156360" y="5300640"/>
              <a:ext cx="2521080" cy="9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osfa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dihidroxiceto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2"/>
            <p:cNvSpPr/>
            <p:nvPr/>
          </p:nvSpPr>
          <p:spPr>
            <a:xfrm>
              <a:off x="3059280" y="5013360"/>
              <a:ext cx="1657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ff0000"/>
                  </a:solidFill>
                  <a:latin typeface="Arial"/>
                </a:rPr>
                <a:t>Aldol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Line 14"/>
          <p:cNvSpPr/>
          <p:nvPr/>
        </p:nvSpPr>
        <p:spPr>
          <a:xfrm>
            <a:off x="3851280" y="191628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324000" y="981000"/>
            <a:ext cx="8496000" cy="2260080"/>
            <a:chOff x="324000" y="981000"/>
            <a:chExt cx="8496000" cy="2260080"/>
          </a:xfrm>
        </p:grpSpPr>
        <p:pic>
          <p:nvPicPr>
            <p:cNvPr id="145" name="Picture 4" descr="sp4532"/>
            <p:cNvPicPr/>
            <p:nvPr/>
          </p:nvPicPr>
          <p:blipFill>
            <a:blip r:embed="rId2"/>
            <a:srcRect l="0" t="0" r="18641" b="22921"/>
            <a:stretch/>
          </p:blipFill>
          <p:spPr>
            <a:xfrm>
              <a:off x="324000" y="981000"/>
              <a:ext cx="849600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5"/>
            <p:cNvSpPr/>
            <p:nvPr/>
          </p:nvSpPr>
          <p:spPr>
            <a:xfrm>
              <a:off x="470520" y="2708280"/>
              <a:ext cx="20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ructosa-6-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"/>
            <p:cNvSpPr/>
            <p:nvPr/>
          </p:nvSpPr>
          <p:spPr>
            <a:xfrm>
              <a:off x="5796360" y="2781360"/>
              <a:ext cx="290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ructosa- 1, 6-bi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1"/>
            <p:cNvSpPr/>
            <p:nvPr/>
          </p:nvSpPr>
          <p:spPr>
            <a:xfrm>
              <a:off x="3564000" y="2309760"/>
              <a:ext cx="18000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ff0000"/>
                  </a:solidFill>
                  <a:latin typeface="Arial"/>
                </a:rPr>
                <a:t>Fosfotructo quin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3924360" y="1125360"/>
              <a:ext cx="792000" cy="863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Mg</a:t>
              </a:r>
              <a:r>
                <a:rPr b="1" lang="es-ES_tradnl" sz="2000" spc="-1" strike="noStrike" baseline="30000">
                  <a:solidFill>
                    <a:srgbClr val="333399"/>
                  </a:solidFill>
                  <a:latin typeface="Arial"/>
                </a:rPr>
                <a:t>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23:19:21Z</dcterms:created>
  <dc:creator>Irma</dc:creator>
  <dc:description/>
  <dc:language>en-US</dc:language>
  <cp:lastModifiedBy>Usuario</cp:lastModifiedBy>
  <dcterms:modified xsi:type="dcterms:W3CDTF">2012-09-04T15:19:33Z</dcterms:modified>
  <cp:revision>136</cp:revision>
  <dc:subject/>
  <dc:title>METABOLISMO</dc:title>
</cp:coreProperties>
</file>